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3.jpeg" ContentType="image/jpeg"/>
  <Override PartName="/ppt/media/image24.png" ContentType="image/png"/>
  <Override PartName="/ppt/media/image18.jpeg" ContentType="image/jpeg"/>
  <Override PartName="/ppt/media/image2.jpeg" ContentType="image/jpeg"/>
  <Override PartName="/ppt/media/image23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26.png" ContentType="image/png"/>
  <Override PartName="/ppt/media/image17.jpeg" ContentType="image/jpeg"/>
  <Override PartName="/ppt/media/image14.png" ContentType="image/png"/>
  <Override PartName="/ppt/media/image1.jpeg" ContentType="image/jpeg"/>
  <Override PartName="/ppt/media/image22.jpeg" ContentType="image/jpeg"/>
  <Override PartName="/ppt/media/image16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9342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3ACC7-179D-4294-8FEE-B7D8C2BAC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85D3F-9E43-4A9A-9E12-86236CA9C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0FCA9-986C-4EC8-AFDD-7727F9EF1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8E221-1681-486F-AA55-EC2B6D178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D2C66-3448-4262-B014-0D1677C49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A1872-66F7-4C56-9F41-97EF4742E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C172E-429A-464A-999B-50AB4BECD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94D7D-706E-4FE2-86D0-63C427E04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EF387-DC27-4982-AC66-172577136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484A9-C1F1-4382-89A1-51397B861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18AC4-D677-40ED-A75F-DA03D6893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A07D5-F62A-4635-ADAD-803463D86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AD055-65C9-4C9A-AB48-CF00EA8E0A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images.animationfactory.com/imagedir/backgrounds/miscellaneous/thumbs_up/thumbs_up_lg_nwm_me.gif&amp;imgrefurl=http://www.animationfactory.com/backgrounds/miscellaneous/16a902/&amp;h=200&amp;w=200&amp;sz=18&amp;hl=en&amp;start=4&amp;tbnid=4ZTXWvpN9JA7EM:&amp;tbnh=104&amp;tbnw=104&amp;prev=/images%3Fq%3Dthumbs%2Bup%26ndsp%3D18%26svnum%3D10%26hl%3Den%26lr%3D%26rls%3DGGLG,GGLG:2005-44,GGLG:en%26sa%3DN" TargetMode="External"/><Relationship Id="rId2" Type="http://schemas.openxmlformats.org/officeDocument/2006/relationships/image" Target="../media/image25.jpeg"/><Relationship Id="rId3" Type="http://schemas.openxmlformats.org/officeDocument/2006/relationships/image" Target="../media/image25.jpeg"/><Relationship Id="rId4" Type="http://schemas.openxmlformats.org/officeDocument/2006/relationships/image" Target="../media/image25.jpeg"/><Relationship Id="rId5" Type="http://schemas.openxmlformats.org/officeDocument/2006/relationships/image" Target="../media/image26.png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hyperlink" Target="http://homepage.mac.com/wildlifeweb/mammal/sumatran_tiger/sumatran_tiger_male_02tfk.jpg" TargetMode="External"/><Relationship Id="rId4" Type="http://schemas.openxmlformats.org/officeDocument/2006/relationships/image" Target="../media/image10.jpeg"/><Relationship Id="rId5" Type="http://schemas.openxmlformats.org/officeDocument/2006/relationships/hyperlink" Target="http://www1.cs.columbia.edu/~sedwards/photos/taiwan200508/20050828-2091%20Rhino%20Leofoo%20Village.jpg" TargetMode="External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Baskerville Old Face"/>
              </a:rPr>
              <a:t>Module 2: Psychology &amp; Scienc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666880" y="1752480"/>
            <a:ext cx="3659400" cy="467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Rockwell"/>
              </a:rPr>
              <a:t>Conducting Experiments - 7 Rules to Reduce Error &amp; Bi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5639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ule 1: Ask a question in the form of a hypothesi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ypothesis = educat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04920" y="289548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ule 2: Identify the Independent Variable (IV) &amp; Dependent Variable (DV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V = Trea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V = Outcome meas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4920" y="4648320"/>
            <a:ext cx="54864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ule 3:  Choose subjects who are representative of the population by using random sel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ndom selec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subject has an equal chance of being selected to particip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6019920" y="1787400"/>
            <a:ext cx="2666880" cy="188928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6477120" y="4114800"/>
            <a:ext cx="148572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152280"/>
            <a:ext cx="7696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onducting Experiments - 7 Rules to Reduce Error &amp; Bias (Cont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60958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ule 4: Randomly assign subjects to experimental and control grou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erimental gro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ceives the treat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rol gro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es not receive the treat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120" y="33526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ule 5:  Manipulate the IV by administering the treatment to the experimental gro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Double blind procedu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ither the experimenter nor the subject knows which group is receiving the trea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5562720" y="1981080"/>
            <a:ext cx="3162240" cy="33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onducting Experiments - 7 Rules to Reduce Error &amp; Bias (Cont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240" y="2209320"/>
            <a:ext cx="5181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ule 6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easure effect of the IV on the D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33520" y="4038480"/>
            <a:ext cx="5181480" cy="21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ule 7:  Analyze results using statistical proced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atistical procedures are used to determine whether observed differences in the DV are due to the IV or to chanc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5638680" y="2057400"/>
            <a:ext cx="2898720" cy="149544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6400800" y="4114800"/>
            <a:ext cx="18813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396252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Bookman Old Style"/>
              </a:rPr>
              <a:t>ADHD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30592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Attention Deficit Hyperactivity Disord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3-7% of children are diagnosed with ADH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More common in boys (3:1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2 major symptoms are hyperactivity/impulsivity &amp; inatten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57200" y="3809880"/>
            <a:ext cx="8458200" cy="256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Diagnos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Based on behavioral symptoms rather than medical test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Misdiagnosis may occur because severity of behavioral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symptoms vari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Treat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Most common treatment is stimulant medication (e.g., Ritalin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ffffff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867280" y="304920"/>
            <a:ext cx="2762280" cy="195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700" spc="-1" strike="noStrike">
                <a:solidFill>
                  <a:srgbClr val="000000"/>
                </a:solidFill>
                <a:latin typeface="Albertus MT"/>
              </a:rPr>
              <a:t>THAT’S IT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752480" y="3733560"/>
            <a:ext cx="601992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sure you study tonight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Rea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study no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study pre-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429000" y="1752480"/>
            <a:ext cx="1676520" cy="16765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5105520" y="1752480"/>
            <a:ext cx="1676160" cy="167652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1752480" y="1752480"/>
            <a:ext cx="1676520" cy="16765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5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95760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Felix Titling"/>
              </a:rPr>
              <a:t>Research Metho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ol for answering qu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 Ty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rv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se stu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ri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809880" y="2514600"/>
            <a:ext cx="4724640" cy="35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03848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"/>
              </a:rPr>
              <a:t>#1: </a:t>
            </a:r>
            <a:r>
              <a:rPr b="0" lang="en-US" sz="8000" spc="-1" strike="noStrike">
                <a:solidFill>
                  <a:srgbClr val="000000"/>
                </a:solidFill>
                <a:latin typeface="Rockwell"/>
              </a:rPr>
              <a:t>Survey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y to obtain info by asking many individuals a fixed set of particular ques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one, mail, person to person, on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3276720"/>
            <a:ext cx="5715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dvant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Obtain information from a large group quick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Compare answers from different groups (age, cultur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isadvant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Responses may be influenced 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phrasing of the ques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who asks the ques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People may not answer truthfu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5638680" y="152280"/>
            <a:ext cx="1978200" cy="15447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324480" y="2895480"/>
            <a:ext cx="2454480" cy="30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#2: </a:t>
            </a:r>
            <a:r>
              <a:rPr b="0" lang="en-US" sz="7500" spc="-1" strike="noStrike">
                <a:solidFill>
                  <a:srgbClr val="000000"/>
                </a:solidFill>
                <a:latin typeface="Bookman Old Style"/>
              </a:rPr>
              <a:t>CASE STUDIES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77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depth analysis of a single individu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4114800" cy="33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dvant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rovides rich, descriptive deta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Disadvant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Bias &amp; error related to testimon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5486400" y="2362320"/>
            <a:ext cx="262908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6840" y="30456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sonal Case Studies: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estimon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ment in support of a particular viewpoint based on detailed observations of an individual’s personal experi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blems with Testimon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ased personal belie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f-fulfilling prophe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cebos &amp; placebo eff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477120" y="3886200"/>
            <a:ext cx="2023920" cy="25909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4114800" y="4419720"/>
            <a:ext cx="2438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lbertus MT"/>
              </a:rPr>
              <a:t>“</a:t>
            </a:r>
            <a:r>
              <a:rPr b="1" i="1" lang="en-US" sz="1800" spc="-1" strike="noStrike">
                <a:solidFill>
                  <a:srgbClr val="000000"/>
                </a:solidFill>
                <a:latin typeface="Albertus MT"/>
              </a:rPr>
              <a:t>Total Gym helped make me into the toughest guy around; and it can do the same for you!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304920" y="4191120"/>
            <a:ext cx="2095560" cy="23050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 flipH="1" flipV="1">
            <a:off x="5790960" y="5791320"/>
            <a:ext cx="533160" cy="304560"/>
          </a:xfrm>
          <a:prstGeom prst="line">
            <a:avLst/>
          </a:prstGeom>
          <a:ln w="47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151920" y="151920"/>
            <a:ext cx="716292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ceb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eatment that resembles medical therapy, but has no medical effec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king a sugar p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cebo Eff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ge in the patient’s illness that is attributable to an imagined treat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king a sugar pill alleviates patients’ sympto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352680" y="4648320"/>
            <a:ext cx="1428840" cy="16761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6248520" y="1447920"/>
            <a:ext cx="2381040" cy="18572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09480" y="5029200"/>
            <a:ext cx="1752840" cy="11685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867280" y="4648320"/>
            <a:ext cx="2971800" cy="176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15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Felix Titling"/>
              </a:rPr>
              <a:t>Correlation Coeffici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886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measure of the strength of the relation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Areas to consi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z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ges from 0 to +/- 1.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 (positive or negati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icates the direction of associ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572000" y="4495680"/>
            <a:ext cx="4343400" cy="21513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5486400" y="1752480"/>
            <a:ext cx="2590920" cy="25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85840" y="274680"/>
            <a:ext cx="4800600" cy="12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#3: </a:t>
            </a:r>
            <a:r>
              <a:rPr b="1" i="1" lang="en-US" sz="6000" spc="-1" strike="noStrike" u="sng">
                <a:solidFill>
                  <a:srgbClr val="000000"/>
                </a:solidFill>
                <a:uFillTx/>
                <a:latin typeface="Comic Sans MS"/>
              </a:rPr>
              <a:t>Experiments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560" y="837720"/>
            <a:ext cx="37335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llowing rules and guidelines that minimize the possibility of error and bias in order to identify cause-and-effect relationships using the Scientific 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identify cause-and-effect relationsh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imizes error and b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6172200" y="3657600"/>
            <a:ext cx="2295360" cy="28386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6781680" y="1752480"/>
            <a:ext cx="1685880" cy="18576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3809880" y="1905120"/>
            <a:ext cx="2552760" cy="32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cce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762120"/>
            <a:ext cx="457200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eorgia"/>
              </a:rPr>
              <a:t>Rule #1: As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eorgia"/>
              </a:rPr>
              <a:t>Rule #2: Identif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eorgia"/>
              </a:rPr>
              <a:t>Rule #3: Choo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eorgia"/>
              </a:rPr>
              <a:t>Rule #4: Assig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eorgia"/>
              </a:rPr>
              <a:t>Rule #5: Manipula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eorgia"/>
              </a:rPr>
              <a:t>Rule #6: Meas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eorgia"/>
              </a:rPr>
              <a:t>Rule #7: Analyze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5791320" y="2133720"/>
            <a:ext cx="292392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7T23:13:26Z</dcterms:created>
  <dc:creator>tmacleod</dc:creator>
  <dc:description/>
  <dc:language>en-US</dc:language>
  <cp:lastModifiedBy>tmacleod</cp:lastModifiedBy>
  <dcterms:modified xsi:type="dcterms:W3CDTF">2007-02-12T17:20:27Z</dcterms:modified>
  <cp:revision>8</cp:revision>
  <dc:subject/>
  <dc:title>Module 2: Psychology &amp; Science</dc:title>
</cp:coreProperties>
</file>